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433-7AF9-400B-B14D-657E5828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2F4-8FA6-43E1-9DBE-A1099895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3C7-3C2A-46B2-990A-65623282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3DE-8981-48D4-90E2-05A5754F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1307-14CA-4289-A121-3AD9ED38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8F6C-A531-4231-AA70-081E5BBA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BEE2-AFB6-44D0-A7A8-227C9693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0FED-F35D-4FB9-951E-78DFBC02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24C7-E71B-425E-ACE0-9DBC6D0A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FC88-7B1A-4560-90C6-114C75FB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7EBE-4CE1-410F-A486-694DA61C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7D51-0797-44CD-93E6-E9BA177E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AC44-DC01-43EF-A70E-21BAA728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1958-D26B-4DAB-94A1-F7E89F91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BBDE-E47D-48F9-807A-E53B11F4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4EB9-01CD-4CB9-987E-8F28A749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6B1A-7F9C-4E44-9316-66F31B16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0F74-DC17-41E1-8945-2B9F7518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267-0B43-4883-8F84-37A0326A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85FC-26BD-499B-8E50-F15EED05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4C2-C570-4864-8DB0-EA157265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1D04-BCC7-4997-AE60-4635AC57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21E-42F4-4E3B-8612-542D7410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1AA-71F7-4390-9415-935746C1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4DC9E-A755-426B-B5C7-A1836DBA69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F47AF-0A40-4CAC-A985-1E3474235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Yasser Arafat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18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Oct 199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tt Gallo, Tabby Dodson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5840" cy="4918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4572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14600" y="0"/>
            <a:ext cx="5029200" cy="7559640"/>
          </a:xfrm>
          <a:custGeom>
            <a:avLst/>
            <a:gdLst>
              <a:gd name="textAreaLeft" fmla="*/ 360 w 5029200"/>
              <a:gd name="textAreaRight" fmla="*/ 5028840 w 502920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32467">
                <a:moveTo>
                  <a:pt x="6" y="0"/>
                </a:moveTo>
                <a:arcTo wR="6" hR="6" stAng="16200000" swAng="-5400000"/>
                <a:lnTo>
                  <a:pt x="0" y="32461"/>
                </a:lnTo>
                <a:arcTo wR="6" hR="6" stAng="10800000" swAng="-5400000"/>
                <a:lnTo>
                  <a:pt x="21594" y="32467"/>
                </a:lnTo>
                <a:arcTo wR="6" hR="6" stAng="5400000" swAng="-5400000"/>
                <a:lnTo>
                  <a:pt x="21600" y="6"/>
                </a:lnTo>
                <a:arcTo wR="6" hR="6" stAng="0" swAng="-5400000"/>
                <a:close/>
              </a:path>
            </a:pathLst>
          </a:cu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743200" y="349200"/>
            <a:ext cx="4483080" cy="6966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43200" y="0"/>
            <a:ext cx="1828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1143000"/>
            <a:ext cx="365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833400"/>
            <a:ext cx="320040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en-US" sz="8000" spc="-1" strike="noStrike">
                <a:solidFill>
                  <a:srgbClr val="ff0000"/>
                </a:solidFill>
                <a:latin typeface="Book Antiqua"/>
              </a:rPr>
              <a:t>TIM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93880" y="30168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asser Ara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ltimate Peace Priz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39000" y="4592520"/>
            <a:ext cx="137160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r efforts to make peace in the middle eas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ome 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24200" y="1371600"/>
            <a:ext cx="4262400" cy="61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Homes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7:32:24Z</dcterms:created>
  <dc:creator/>
  <dc:description/>
  <dc:language>en-US</dc:language>
  <cp:lastModifiedBy/>
  <cp:revision>1</cp:revision>
  <dc:subject/>
  <dc:title/>
</cp:coreProperties>
</file>